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4DF0-0D8F-4810-8B04-459D298B2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remove the tarnish by multiplying both sides of the equation by the reciprocal of the number that is the “tarnish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is slide, putting an explanation below each equation of how you would use the mud and tarnish to solve the equation, such 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add 5 to both sides of the equation, and then divide both sides of the equation by 4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8DB4A-9302-4CB9-A5F7-D4775634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82705-A6FB-41FC-8A53-074BBB27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0088-DD98-4157-9FCC-41A11C5F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0C32-0296-4484-B10E-3B3348EF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B95D-2715-4934-8E25-6E39E107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1358-86C5-42EF-9149-2C000BAD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238B-8F98-4F24-A8E0-AF03CF20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C946-2128-49F2-8C2D-5C7B1276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CDF4-C0B8-4931-AD67-E40C10F6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79D8-C392-4D7B-9FD1-A2A12188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6B84-367D-43E0-B1DE-81A07670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DD4F2-E2E0-4701-AAE9-9D3404D6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B44D-8351-406D-821E-AF459408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0F5C-41DD-4035-A26B-69CC9921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A024-F009-47A8-86D7-C1612EE3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BAC2-7D1F-44DB-BB61-AEFD23AF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82F9-C4B9-4391-858C-B2104F31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4FEA-79A9-4CAB-88EA-DAE06BA1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7625-8BD0-46DC-ACF4-8B34F80E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5CDB4-5D80-4097-BDBA-07E9A707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ADBA8-C39F-466E-AF82-7E42249D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F186A-FF1C-4A0E-964A-A08B36D0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C4290-8752-44EB-81E5-D1D77EEE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D84CE-060B-4A8B-8294-3DEF87E8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85BE-D881-49D5-BC6A-6DC38055E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8933-9639-43E8-B92B-7BE859622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ving Single Variable Linear Equations 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he Mud/Tarnish problem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honda Renk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mmer 200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8108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What are the steps in solving an linear equation with one variable using the mud/tarnish strateg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TEP 1: Identify the MUD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solidFill>
            <a:srgbClr val="0000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UD is the number that is on the same side of the equation as the variable you are solving f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UD i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dd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btract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o tha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o remove the MUD, perform the inverse operation to the equation on both sides, using that sa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x + 4 = 6    Four is added to 2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ubtract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4 from both sides of the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x - 3  = 4.  Three is subtracted from 7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Add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3 to both sides of the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ep 2: Identify the TARN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RNISH is the number tha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ltipli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vi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variable that you are solving for (such as 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emove the TARNISH, perform  the inverse operation to the equation on both sides, using that sa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2x = 4       Two is multiplied times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th sides of the equation by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x/3 = 6       x is divided by th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th sides of the equation by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identify the MUD (Step 1)and TARNISH (Step 2) in these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x + 2 = 1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+ 2    Tarnish: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x = 2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0       Tarnish:  x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x – 4 = 4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-4      Tarnish: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/3 – 8 = 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-8      Tarnish: Divide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36960" y="24764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6960" y="24764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w that you can identify the MUD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d TARNISH, explain how to use this information to solve the following equ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x + 2 = 12 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+ 2    Tarnish: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ubtract 2 from both sides, and then divide both sides by 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x – 4 = 4  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-4      Tarnish: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dd 4 to both sides, and then divide both sides by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How would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you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finish this probl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/3 – 8 = 13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-8      Tarnish: Divide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36960" y="247644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36960" y="24764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ou can use the “mud/tarnish” strategy to solve many types of algebra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7991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one variable like the ones you’ve just se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more than one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the other variables as if they were just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d and tarnish”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fractions, square roots, even complex numb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ypes of numbers and variabl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“mud and tarnish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15200" cy="76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is another way to look at solving linear equation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743040"/>
            <a:ext cx="7467480" cy="6086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, when you are solving equations using the mud/tarnish metho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343400" cy="441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 of the equation  remaining after you clean off the mud and tarn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you are solving fo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it repres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riable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ing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819760" y="3360600"/>
            <a:ext cx="3071880" cy="204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nformal Roman"/>
              </a:rPr>
              <a:t>    </a:t>
            </a:r>
            <a:r>
              <a:rPr b="0" lang="en-US" sz="7200" spc="-1" strike="noStrike">
                <a:solidFill>
                  <a:srgbClr val="000000"/>
                </a:solidFill>
                <a:latin typeface="Informal Roman"/>
              </a:rPr>
              <a:t>THE    END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476520" y="3114720"/>
            <a:ext cx="2806920" cy="2074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single variable equations can seem tricky, at first, so begin by asking yourself several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solve the equation 3x + 5 = 14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I broke the problem down into step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I do for the first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I do for the second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know what part of the equation to use for each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72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o solve a problem, it helps to relate it to something that is entirely differ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si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lat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5 = 1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lieve: Cleaning the muddy, tarnished rings of ancient Roman sold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we start to solve our algebra problem, we need to learn a little about these Romans and their r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 years ago, Roman soldiers fought  battles against fierce tribes in what is now Eur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oldiers buried their rings and other jewelry before battle to protect their valu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oldiers died in battl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, the soldiers survived the battle, but just couldn’t remember where they had buried their jewelry.  (They must have dug a lot of holes trying to find 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today, people with metal detectors in England, Germany, and even in Eastern Europe find this jewelry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95800" y="2709720"/>
            <a:ext cx="3976920" cy="307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y find Roman rings in the m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these rings are clea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se rings ar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mud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ese rings are 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tarnis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usually, these rings are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tarnish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ud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38520" cy="2411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3880" y="42195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pretend YOU found a Roman ring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and it was muddy AND tarnish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How woul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ean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4573440" cy="3379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on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e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ring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u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or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rn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m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 the outside of the r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t is what you would clean off fir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lean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arn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harder to clean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ould clean it of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let’s compare the mud and tarnish to parts of our equ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3 x + 5 =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UD in this eq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 5 is the mud.  It is the easiest part of the equation to “clean up”, as it is only added to the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get rid of the mu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We “wash off” the mud, 5,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trac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oth sides of the equ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subtracting 5 is the inverse of adding 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x + 5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14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x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the mud is gone, what is the                        TARNISH in the equa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3x = 9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RNISH is the number 3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“attached” to x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“remove the tarnish”, you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th sides of the equation by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3  because division is the inverse operation of multi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x / 3 = 9 /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03:13:47Z</dcterms:created>
  <dc:creator>Rhonda Renker</dc:creator>
  <dc:description/>
  <dc:language>en-US</dc:language>
  <cp:lastModifiedBy>Rhonda Renker</cp:lastModifiedBy>
  <dcterms:modified xsi:type="dcterms:W3CDTF">2007-07-11T20:47:41Z</dcterms:modified>
  <cp:revision>40</cp:revision>
  <dc:subject/>
  <dc:title>Solving Single Variable Equations</dc:title>
</cp:coreProperties>
</file>